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D99-67CE-4217-B588-6C111C8A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D2E-4E5E-49BC-8FC2-05BA598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565-4993-4AC1-8F58-3198B2B4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229-A831-4515-B53C-C3E3D5DE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30D-56D1-418B-BB5F-0E607154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DD8-9ABD-4540-8B6C-E3C1C8A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623-0499-4A4C-9089-161C79EB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A78D-A393-4258-A8C7-0EDB45AD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116-6A18-4FED-8985-3D92BF3B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7AD-7A14-4130-981B-705ABED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E4A-936B-43ED-930F-157A727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C13-4F5B-4217-9897-0CEF41B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709B-3BDF-4C7D-8F08-8A565983E2F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Zugeklapptes H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908" t="41752" r="58847" b="14075"/>
          <a:stretch/>
        </p:blipFill>
        <p:spPr>
          <a:xfrm>
            <a:off x="1908000" y="1773360"/>
            <a:ext cx="5113440" cy="420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6876720" y="2924280"/>
            <a:ext cx="647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148000" y="465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3573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484360" y="5157360"/>
            <a:ext cx="1008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328464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hr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3080" y="537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nne Kla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51960" y="44370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53440" y="2565360"/>
            <a:ext cx="14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app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öff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Geöffnetes H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51465" t="6683" r="-185" b="8642"/>
          <a:stretch/>
        </p:blipFill>
        <p:spPr>
          <a:xfrm>
            <a:off x="2916360" y="1341360"/>
            <a:ext cx="3922560" cy="5113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5076360" y="1773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79564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06864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940360" y="537372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530064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9440" y="15033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5440" y="2708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7280" y="53197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öße 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ndflä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920" y="28526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ch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stilinähnli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3080" y="537372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rbe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änd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7:41:52Z</dcterms:created>
  <dc:creator>Bischöfliches Gymnasium</dc:creator>
  <dc:description/>
  <dc:language>en-US</dc:language>
  <cp:lastModifiedBy>Bischöfliches Gymnasium</cp:lastModifiedBy>
  <dcterms:modified xsi:type="dcterms:W3CDTF">2005-06-12T08:59:01Z</dcterms:modified>
  <cp:revision>3</cp:revision>
  <dc:subject/>
  <dc:title>Zugeklapptes Handy</dc:title>
</cp:coreProperties>
</file>